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8CB-1BEE-4AD2-8A20-E358A1DA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1EC-2D60-46C9-8A17-6A703915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4DF9-4B78-4567-A0BA-E8858A4A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2FE-71FF-4897-BDA9-552BB561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1D5D-0AB1-42CB-805F-72B793A9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7A2C-A7F2-433A-A4FD-ADFD8320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88E3-378E-4D7B-ABAB-1B8A54BA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2F73-F66C-44F9-B657-55534090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90E3-1DCB-4686-93C3-0EDC4D9E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6B7C-C1AD-49D7-BEA5-B3413FC5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D7BC-E29D-47CC-A706-7476F522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F26-2002-4C1A-B2E5-07E431CA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8A60-D88D-4788-8E11-D66F56AA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6A28-5FB0-4FC8-93FB-01E0AF20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9A71-61BB-4F9A-9BFE-A43B3FE3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C7A8-9609-49C2-94D8-8A9FEC5B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E10E-2281-4003-9354-7158178A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17A9FB-C6A6-4452-B8D9-3DB87D08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9CC26-2A80-4B23-A5D9-F2E65AC0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C572B-2F49-46C5-9B27-369D54A4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C1004-CAE3-41E5-ADA8-7B105C6B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153C85-7215-447D-AA23-7CF250AE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974-D59A-42E3-B5C1-72032C4C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987AD-2279-4AA4-8AB3-417EDA1D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9105E-7E47-4E17-96A7-13E02D06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0A5FB-E828-4D96-A5DA-EDD387F2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092B93-4D7F-4250-BE1C-C554E600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A7503-7A9E-46BB-933A-1B69EA06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0A20E3-5000-4C7A-807C-FADEA3FC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69D97-0302-4DC1-8E6F-4DC54DB0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28EAB-9677-4E5A-8217-1F4E43CF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D3877-048C-4661-B0FC-D963B83A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471AC-9557-4A60-9E98-46D48E4D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CA4-4572-4B19-A336-5F1115AF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AD94D-AEA8-4F59-95F5-29E8D15B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C472E-B114-4995-8C52-11928C1F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F73BB-A050-4AE6-A91A-3FFE6730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FFE61-6930-4AAC-A0BC-98FC8F2A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123BC-0721-47E7-B478-F557E494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6F04-6CFA-4DE6-B160-295A2CC9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64865-90B5-4FC1-8BDD-91657266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CA62-DBC9-49D8-A4B6-9405AD22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E9525-D1F1-4580-A2EA-366A6968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DD8-79E8-4E05-B1E7-7FFF0E92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E4C-04E9-4A0C-9AB1-4F8DE92B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72A0-8119-4A60-BBB5-609BB9F8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30D-6E30-44A1-8443-97DD3C15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81C5-F326-4E33-8F4A-E098CE2B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9BF3-AE0C-48E2-922B-5CFEA3B375F2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b0ccb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b0ccb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A1B6-C701-44B8-8151-545D2C2807B1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96FA-6E09-4D75-BB24-E6E9AFBEAD8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b0cc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76a55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b0ccb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72a37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8cdd7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b0ccb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0ccb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1E13-64EB-4FFA-AB28-ADDD4BF3AA37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rebuchet MS"/>
              </a:rPr>
              <a:t>Information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stelle was arranging furniture in her bedroom.  Her dresser was 4 feet wide and her bed was 6 feet wide.  She had a chair that was 36 inches wide a bookcase that was 2 feet wide.  She drew a picture of her room to help her decide where to put thing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52480" y="3962520"/>
          <a:ext cx="6096240" cy="20113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2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 f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17" name="Straight Arrow Connector 7"/>
          <p:cNvCxnSpPr/>
          <p:nvPr/>
        </p:nvCxnSpPr>
        <p:spPr>
          <a:xfrm>
            <a:off x="5105520" y="5790960"/>
            <a:ext cx="2591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Straight Arrow Connector 9"/>
          <p:cNvCxnSpPr/>
          <p:nvPr/>
        </p:nvCxnSpPr>
        <p:spPr>
          <a:xfrm flipH="1">
            <a:off x="1828800" y="5790960"/>
            <a:ext cx="266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TextBox 10"/>
          <p:cNvSpPr/>
          <p:nvPr/>
        </p:nvSpPr>
        <p:spPr>
          <a:xfrm>
            <a:off x="8001000" y="47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8 ft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20" name="Straight Arrow Connector 12"/>
          <p:cNvCxnSpPr/>
          <p:nvPr/>
        </p:nvCxnSpPr>
        <p:spPr>
          <a:xfrm>
            <a:off x="8000640" y="3962160"/>
            <a:ext cx="108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21" name="TextBox 15"/>
          <p:cNvSpPr/>
          <p:nvPr/>
        </p:nvSpPr>
        <p:spPr>
          <a:xfrm>
            <a:off x="914400" y="4267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oo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1752480" y="4191120"/>
            <a:ext cx="228600" cy="533160"/>
          </a:xfrm>
          <a:prstGeom prst="rect">
            <a:avLst/>
          </a:prstGeom>
          <a:solidFill>
            <a:srgbClr val="72a376"/>
          </a:solidFill>
          <a:ln w="190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23" name="Straight Arrow Connector 18"/>
          <p:cNvCxnSpPr/>
          <p:nvPr/>
        </p:nvCxnSpPr>
        <p:spPr>
          <a:xfrm>
            <a:off x="1599840" y="41907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24" name="Rectangle 19"/>
          <p:cNvSpPr/>
          <p:nvPr/>
        </p:nvSpPr>
        <p:spPr>
          <a:xfrm>
            <a:off x="5638680" y="3962520"/>
            <a:ext cx="2057400" cy="304560"/>
          </a:xfrm>
          <a:prstGeom prst="rect">
            <a:avLst/>
          </a:prstGeom>
          <a:solidFill>
            <a:srgbClr val="72a376"/>
          </a:solidFill>
          <a:ln w="1908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TextBox 20"/>
          <p:cNvSpPr/>
          <p:nvPr/>
        </p:nvSpPr>
        <p:spPr>
          <a:xfrm>
            <a:off x="5791320" y="4343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26" name="Straight Arrow Connector 22"/>
          <p:cNvCxnSpPr/>
          <p:nvPr/>
        </p:nvCxnSpPr>
        <p:spPr>
          <a:xfrm>
            <a:off x="5638320" y="4343040"/>
            <a:ext cx="205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rebuchet MS"/>
              </a:rPr>
              <a:t>Monday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426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any inches wide is Estelle’s dresser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rebuchet MS"/>
              </a:rPr>
              <a:t>Tuesday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is the perimeter of Estelle’s room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rebuchet MS"/>
              </a:rPr>
              <a:t>Wednesday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any inches of wall space would be needed if her bed and dresser were sitting side by sid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rebuchet MS"/>
              </a:rPr>
              <a:t>Thursday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any inches wider is the bed than the chair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rebuchet MS"/>
              </a:rPr>
              <a:t>Friday</a:t>
            </a:r>
            <a:endParaRPr b="0" lang="en-US" sz="4400" spc="-1" strike="noStrike">
              <a:solidFill>
                <a:srgbClr val="676a55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Estelle put the dresser and the chair in the 12 foot wall, how many feet would not be used for furniture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8cdd7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21:42:23Z</dcterms:created>
  <dc:creator>127partidak</dc:creator>
  <dc:description/>
  <dc:language>en-US</dc:language>
  <cp:lastModifiedBy>127partidak</cp:lastModifiedBy>
  <dcterms:modified xsi:type="dcterms:W3CDTF">2012-02-10T22:11:55Z</dcterms:modified>
  <cp:revision>3</cp:revision>
  <dc:subject/>
  <dc:title>Information</dc:title>
</cp:coreProperties>
</file>